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646E-36C3-47B9-94A8-C070A7081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4A92-23B1-4397-B964-C4A5BAA2A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80F2-93AC-4BE5-A7AF-02F25AD9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7B0E-12A4-420C-B63A-6A20E7E5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597D-8880-49F7-8829-254450E7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304C-59C6-4443-90F1-245093D7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5238-261A-4D89-BCD0-C3D6F7DA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3615-649B-42B4-88D6-2F8FB35D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17AF-8640-4713-A566-AE57CB00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523-42A3-4DB8-B112-FCB5D4BA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B102-F97A-49D7-AED4-D86BE0A4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11DB-1DBC-4D34-97B5-3ED603F8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2D23-FF76-4753-9647-38246692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CB37-F798-4EF2-A074-2B3CFCE7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9341-4137-42F9-9501-DFA18BAFB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otw.unislabs.com/images/d/do_o-gs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Flag of the Generalissime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 llamo _______ Clase 8IM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a fecha es el 26 de febr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320" y="14475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ropósito # 37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¿Quién es Rafael Leonidas Trujill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ctiv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ad and highlight the article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he Dominician Dictator: Rafael Truj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rar y tomar notas del PPT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Rafael Trujillo Mo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rar y tomar notas del PPT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Republica Dominicana 1930-19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Tarea # 3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ork on your PROJECT with your group during the Project is due THURSDAY, MARCH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9T14:52:33Z</dcterms:created>
  <dc:creator>Helen Zumaeta</dc:creator>
  <dc:description/>
  <dc:language>en-US</dc:language>
  <cp:lastModifiedBy>Helen Zumaeta</cp:lastModifiedBy>
  <dcterms:modified xsi:type="dcterms:W3CDTF">2013-02-26T14:38:09Z</dcterms:modified>
  <cp:revision>8</cp:revision>
  <dc:subject/>
  <dc:title>Me llamo _______ Clase 8IM La fecha es el 3 de febrero del 2012</dc:title>
</cp:coreProperties>
</file>